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C35-CB69-4144-BEAD-0EA2C234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F7F-2128-458F-825D-769E45A1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4B5-4B9C-4421-907D-39B48DE7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FED-8118-4808-8983-761BA63D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3AD8-B571-4CD8-B439-2F8947EB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94BC-AC03-41A0-85B8-5ED3D57A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AF71-9245-453C-BEE0-0A963B86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5346-5F67-429C-BA54-39ED1E0C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800D-A40E-41FF-821F-F512F379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05840"/>
            <a:ext cx="8076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5FF-A554-4D31-9B54-9EF25E08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0AA6-3C26-4BF4-B511-2876EA2A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8A3-5542-4435-BFCD-D51F6D71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EB0D-B669-460E-9678-E0B9C0E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A544-9B9A-4A4E-AAE4-93C455F4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7A0F-D1F0-4B8C-B5AC-95200455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08CF-6EE7-45F7-9C28-E664FD87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093A-5A49-4A51-B91F-3EDDF44F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D39-4E29-4077-8BC4-384A012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F0B-1E92-47F7-A7F8-6B7C7F44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394-C05A-4A31-8665-DC61B8FF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05840"/>
            <a:ext cx="8076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963-9BB4-4AB3-A6D9-0E868C8A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85E-07C6-4484-9732-501F43F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8EE-856D-4730-BBF2-8926EC54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B88-013D-4992-83F0-AC8AADC0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80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62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946D-DBE3-4E1A-B5CD-411D1AC330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04680"/>
            <a:ext cx="739152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e8e94"/>
                </a:solidFill>
                <a:latin typeface="Arial Black"/>
              </a:rPr>
              <a:t>Click to edit the title text format</a:t>
            </a:r>
            <a:endParaRPr b="0" lang="en-US" sz="51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94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004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1625-9DBE-4723-BCC3-ED0D0C5AE0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04680"/>
            <a:ext cx="739152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e8e94"/>
                </a:solidFill>
                <a:latin typeface="Arial Black"/>
              </a:rPr>
              <a:t>Sir, We Would See Jesus</a:t>
            </a:r>
            <a:endParaRPr b="0" lang="en-US" sz="51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560" y="3657600"/>
            <a:ext cx="6019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50-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7:1-35; Matt. 11:20-30; Luke 7:36-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Jesus Attends A Feast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by Simon The Pharisee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7:36-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nitent harlot attends and pays homage 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 resents Jesus letting this sinful woman associate wit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eaches a lesson on the gratefulness of those forgiven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81480" y="914400"/>
            <a:ext cx="5762520" cy="3714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2828880"/>
            <a:ext cx="6029280" cy="4029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819520" y="228600"/>
            <a:ext cx="28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perna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1066680"/>
            <a:ext cx="114300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99072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sus heals a centurion’s servant at Capernaum – Matt.8:5-13; Luke 7:1-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The Faith of the Centurion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ing Jesus to come heal his slave – Lk.7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ing that just the word of Jesus was enough – 7:6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ward of faith was instant healing to the servant – 7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38360" y="914400"/>
            <a:ext cx="5705640" cy="370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668680"/>
            <a:ext cx="6248520" cy="4133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657600" y="0"/>
            <a:ext cx="1219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2133720"/>
            <a:ext cx="53316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sus raises the widow’s son at Nain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ke 7:11-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The Power of Jesus Over Death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okenhearted mother can touch Jesus’ heart – Luke 7:1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nderhearted Messiah can lift your hopelessness:  “Don’t cry” – v.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werful God Can Give Life To The Dead – v.14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29200" y="5638680"/>
            <a:ext cx="13716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0"/>
            <a:ext cx="410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hn is in pri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 Machaer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Message from John and Jesus’ Reply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you indeed the Messiah?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7:18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ore proof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eals the sick – Luke 7:21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aises the dead – 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elivers the demon-possessed – 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eaches good news to the poor – 22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Jesus Talks About John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ithful and fearless forerunner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7:24-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prophesied by Malachi (3:1) – Luke 7:27-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ffect of John’s preaching on common, unprejudiced people – 7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judice of the Pharisees – 7:30-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Woes Upon The Cities of Galilee –Matt. 11:20-30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1552680"/>
            <a:ext cx="8229600" cy="5305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1371600"/>
            <a:ext cx="114300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371600"/>
            <a:ext cx="12952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18288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1:54:23Z</dcterms:created>
  <dc:creator>Terry W. Benton</dc:creator>
  <dc:description/>
  <dc:language>en-US</dc:language>
  <cp:lastModifiedBy>Frank D Vines</cp:lastModifiedBy>
  <dcterms:modified xsi:type="dcterms:W3CDTF">2006-05-20T22:16:48Z</dcterms:modified>
  <cp:revision>5</cp:revision>
  <dc:subject/>
  <dc:title>Sir, We Would See Jesus</dc:title>
</cp:coreProperties>
</file>